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jpeg" ContentType="image/jpeg"/>
  <Override PartName="/ppt/media/image12.wmf" ContentType="image/x-wmf"/>
  <Override PartName="/ppt/media/image8.png" ContentType="image/png"/>
  <Override PartName="/ppt/media/image7.gif" ContentType="image/gif"/>
  <Override PartName="/ppt/media/image11.png" ContentType="image/png"/>
  <Override PartName="/ppt/media/image19.jpeg" ContentType="image/jpeg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gif" ContentType="image/gif"/>
  <Override PartName="/ppt/media/image1.png" ContentType="image/png"/>
  <Override PartName="/ppt/media/image2.jpeg" ContentType="image/jpeg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6BA7-CC21-45FB-9914-C71AA0474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ECF3-F3A3-4968-A96A-17C475BC49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C60A-D2F5-49B3-A543-97155445C3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27F1-1330-42AD-9E02-0CFAD28DCD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6596-741B-4067-956E-A7BD59772A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2079-4205-47B5-A65F-688C20BCEE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F6AC-EE3E-483C-B495-A998978EB5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F915-193E-48EE-8E9A-B330BED1EF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BA7F-8E41-462A-9C06-A68EAD67A5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23DF-70A0-4DF0-B743-96DC6FEB99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52E9-8CEE-4B93-8B26-18600C1F55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D53E-7996-443A-88E4-B933E9B021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C4AF-CE22-4978-A6F2-8B853CA0B2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5C4F-AB52-4E0C-A55C-17409792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D31D-52C7-4D2B-BF8A-7A2BF0D9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D13-6B65-4BC8-9A1B-5C7D3FFC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ABF-5F30-4219-B015-3F562664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F91E-806E-4DBA-A604-0717AC53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17CB-8650-49DA-A948-E060CB9D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DF91-3A57-4A5D-A304-DCA5F42A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5B68-1910-4DA3-9BD4-0CE77275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8BDD-6FD4-484A-A15D-B5F298C0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22E2-6994-41B9-BFB2-1330A203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5441-FE9A-4C74-903F-2CD6D04B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7FF2-350C-47D2-9F22-AD536A8C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374B-1283-4C31-86D7-47D33506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0AF0-EC9C-4C83-A254-A0A36141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6854-DDAD-44A3-88C3-40EE2B6C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C699-1374-4790-9484-58FEBE1E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A027-DF27-4F1C-9C0D-3DD4D35A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8CC-021C-4B95-82DF-0F784BBE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AF4-0062-4154-BD0A-AE6EC814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6FE-8760-4D72-94A5-59F62894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195B-2278-4E0D-A6BF-EAFECEAD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F4C1-8552-47BC-A65F-3A4C381A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3C04-0D91-47E6-BFEE-59FDD42F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B65-E7A6-4E1B-8C16-77C3843D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85886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D581-A9A0-43E7-94E2-DB8A4C6F66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05078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8533-0055-4AB3-8A01-58A8510EEA8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279600" y="1087560"/>
            <a:ext cx="58644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Welcome t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Mrs. Williams’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“</a:t>
            </a: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Boot Camp”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Technology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Lab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9" descr="Picture"/>
          <p:cNvPicPr/>
          <p:nvPr/>
        </p:nvPicPr>
        <p:blipFill>
          <a:blip r:embed="rId2"/>
          <a:stretch/>
        </p:blipFill>
        <p:spPr>
          <a:xfrm>
            <a:off x="304920" y="1676520"/>
            <a:ext cx="3352680" cy="399240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1d1df"/>
                </a:solidFill>
                <a:latin typeface="Aharoni"/>
                <a:ea typeface="Aharoni"/>
              </a:rPr>
              <a:t>How to Get my Attention</a:t>
            </a:r>
            <a:endParaRPr b="0" lang="en-US" sz="66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22" name="Picture 4" descr="MCj02979430000[1]"/>
          <p:cNvPicPr/>
          <p:nvPr/>
        </p:nvPicPr>
        <p:blipFill>
          <a:blip r:embed="rId1"/>
          <a:stretch/>
        </p:blipFill>
        <p:spPr>
          <a:xfrm>
            <a:off x="533520" y="1371600"/>
            <a:ext cx="1384200" cy="3200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0" y="4572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need hel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6" descr="MCj02979410000[1]"/>
          <p:cNvPicPr/>
          <p:nvPr/>
        </p:nvPicPr>
        <p:blipFill>
          <a:blip r:embed="rId2"/>
          <a:stretch/>
        </p:blipFill>
        <p:spPr>
          <a:xfrm>
            <a:off x="3886200" y="2971800"/>
            <a:ext cx="1438200" cy="30481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2895480" y="60199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need to get 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8" descr="MCj02979390000[1]"/>
          <p:cNvPicPr/>
          <p:nvPr/>
        </p:nvPicPr>
        <p:blipFill>
          <a:blip r:embed="rId3"/>
          <a:stretch/>
        </p:blipFill>
        <p:spPr>
          <a:xfrm>
            <a:off x="7238880" y="1219320"/>
            <a:ext cx="1332000" cy="32004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6324480" y="449568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need to go to the Restro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816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1d1df"/>
                </a:solidFill>
                <a:latin typeface="bang whack pow"/>
              </a:rPr>
              <a:t>Dismissal Procedures</a:t>
            </a:r>
            <a:endParaRPr b="0" lang="en-US" sz="66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ave Work/Exit progra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t away headphones properl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raighten keyboard/mou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ather materials/tras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sh in chair and stand behind it until dismissed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C:\Users\dwilliams2\AppData\Local\Microsoft\Windows\Temporary Internet Files\Content.IE5\ZO097Q1G\MM900283848[1].gif"/>
          <p:cNvPicPr/>
          <p:nvPr/>
        </p:nvPicPr>
        <p:blipFill>
          <a:blip r:embed="rId1"/>
          <a:stretch/>
        </p:blipFill>
        <p:spPr>
          <a:xfrm>
            <a:off x="5562720" y="2057400"/>
            <a:ext cx="3174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1d1df"/>
                </a:solidFill>
                <a:latin typeface="bang whack pow"/>
              </a:rPr>
              <a:t>Lining Up Procedures</a:t>
            </a:r>
            <a:endParaRPr b="0" lang="en-US" sz="6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en instructed by teach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ircle around to the lef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alk to the door in single fil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C:\Users\dwilliams2\AppData\Local\Microsoft\Windows\Temporary Internet Files\Content.IE5\IS9CPID6\MP900382689[1].jpg"/>
          <p:cNvPicPr/>
          <p:nvPr/>
        </p:nvPicPr>
        <p:blipFill>
          <a:blip r:embed="rId1"/>
          <a:stretch/>
        </p:blipFill>
        <p:spPr>
          <a:xfrm>
            <a:off x="177840" y="3809880"/>
            <a:ext cx="820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Attention Students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35" name="Picture 2" descr="http://www.scholastic.com/teachers/sites/default/files/posts/u24/images/az.cwk_.rocketship.jpg"/>
          <p:cNvPicPr/>
          <p:nvPr/>
        </p:nvPicPr>
        <p:blipFill>
          <a:blip r:embed="rId1"/>
          <a:stretch/>
        </p:blipFill>
        <p:spPr>
          <a:xfrm>
            <a:off x="1289160" y="1295280"/>
            <a:ext cx="2552760" cy="2552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www.scholastic.com/teachers/sites/default/files/posts/u24/images/az.cwk_.satellite.jpg"/>
          <p:cNvPicPr/>
          <p:nvPr/>
        </p:nvPicPr>
        <p:blipFill>
          <a:blip r:embed="rId2"/>
          <a:stretch/>
        </p:blipFill>
        <p:spPr>
          <a:xfrm>
            <a:off x="4495680" y="137160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www.scholastic.com/teachers/sites/default/files/posts/u24/images/az.cwk_.launchpad.jpg"/>
          <p:cNvPicPr/>
          <p:nvPr/>
        </p:nvPicPr>
        <p:blipFill>
          <a:blip r:embed="rId3"/>
          <a:stretch/>
        </p:blipFill>
        <p:spPr>
          <a:xfrm>
            <a:off x="1289160" y="4038480"/>
            <a:ext cx="2628720" cy="26290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4850640" y="4648320"/>
            <a:ext cx="268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st Off”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 to Work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85840" y="257184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ock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i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7153920" y="24955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telli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79360" y="5186520"/>
            <a:ext cx="9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un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Logging In and Ou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Log In—One bel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Listen before Logging Out-Two bell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2" descr="C:\Users\dwilliams2\AppData\Local\Microsoft\Windows\Temporary Internet Files\Content.IE5\253LA2QH\MP900382799[1].jpg"/>
          <p:cNvPicPr/>
          <p:nvPr/>
        </p:nvPicPr>
        <p:blipFill>
          <a:blip r:embed="rId1"/>
          <a:stretch/>
        </p:blipFill>
        <p:spPr>
          <a:xfrm>
            <a:off x="5486400" y="3962520"/>
            <a:ext cx="3094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1d1df"/>
                </a:solidFill>
                <a:latin typeface="Amadeus"/>
              </a:rPr>
              <a:t>Drills</a:t>
            </a:r>
            <a:endParaRPr b="0" lang="en-US" sz="72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1960" y="1472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e Dr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rnado Dr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de Blue Dr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C:\Users\dwilliams2\AppData\Local\Microsoft\Windows\Temporary Internet Files\Content.IE5\IS9CPID6\MC900335182[1].wmf"/>
          <p:cNvPicPr/>
          <p:nvPr/>
        </p:nvPicPr>
        <p:blipFill>
          <a:blip r:embed="rId1"/>
          <a:stretch/>
        </p:blipFill>
        <p:spPr>
          <a:xfrm>
            <a:off x="4191120" y="2593800"/>
            <a:ext cx="39574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3279600" y="1087560"/>
            <a:ext cx="58644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Enjoy your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time in the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“</a:t>
            </a: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Boot Camp”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Technology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Lab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9" descr="Picture"/>
          <p:cNvPicPr/>
          <p:nvPr/>
        </p:nvPicPr>
        <p:blipFill>
          <a:blip r:embed="rId2"/>
          <a:stretch/>
        </p:blipFill>
        <p:spPr>
          <a:xfrm>
            <a:off x="304920" y="1676520"/>
            <a:ext cx="3352680" cy="399240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990720" y="1295280"/>
            <a:ext cx="716256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empus Sans ITC"/>
              </a:rPr>
              <a:t>Technology Lab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empus Sans ITC"/>
              </a:rPr>
              <a:t>Rules &amp; Procedures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MCj04244440000[1]"/>
          <p:cNvPicPr/>
          <p:nvPr/>
        </p:nvPicPr>
        <p:blipFill>
          <a:blip r:embed="rId1"/>
          <a:stretch/>
        </p:blipFill>
        <p:spPr>
          <a:xfrm>
            <a:off x="6095880" y="1295280"/>
            <a:ext cx="2600280" cy="3200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1d1df"/>
                </a:solidFill>
                <a:latin typeface="bang whack pow"/>
              </a:rPr>
              <a:t>Arrival Procedures</a:t>
            </a:r>
            <a:endParaRPr b="0" lang="en-US" sz="66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. Sanitize FIRST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 Come in quietl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 Move to your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ssigned computer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n you are told to do so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. Do not begin using the computer until told to do so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4160" y="-30528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1d1df"/>
                </a:solidFill>
                <a:latin typeface="BethsCuteHmkBold"/>
              </a:rPr>
              <a:t>Be Nice to the Computer Lab</a:t>
            </a:r>
            <a:endParaRPr b="0" lang="en-US" sz="72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03" name="Picture 14" descr="http://ecx.images-amazon.com/images/I/51ccgc74c%2BL._SX300_.jpg"/>
          <p:cNvPicPr/>
          <p:nvPr/>
        </p:nvPicPr>
        <p:blipFill>
          <a:blip r:embed="rId1"/>
          <a:stretch/>
        </p:blipFill>
        <p:spPr>
          <a:xfrm>
            <a:off x="533520" y="1015920"/>
            <a:ext cx="777240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No food or drinks in the lab</a:t>
            </a:r>
            <a:br>
              <a:rPr sz="4400"/>
            </a:b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282080" cy="4705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MCj04325380000[1]"/>
          <p:cNvPicPr/>
          <p:nvPr/>
        </p:nvPicPr>
        <p:blipFill>
          <a:blip r:embed="rId2"/>
          <a:stretch/>
        </p:blipFill>
        <p:spPr>
          <a:xfrm>
            <a:off x="3809880" y="2514600"/>
            <a:ext cx="36576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-25560"/>
            <a:ext cx="8229600" cy="105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1d1df"/>
                </a:solidFill>
                <a:latin typeface="bang whack pow"/>
              </a:rPr>
              <a:t>Be Nice to the Computers Lab</a:t>
            </a:r>
            <a:endParaRPr b="0" lang="en-US" sz="48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4800600"/>
            <a:ext cx="556272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nt with permission ONL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e and Print once, when told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MMj01631220000[1]"/>
          <p:cNvPicPr/>
          <p:nvPr/>
        </p:nvPicPr>
        <p:blipFill>
          <a:blip r:embed="rId1"/>
          <a:stretch/>
        </p:blipFill>
        <p:spPr>
          <a:xfrm>
            <a:off x="5334120" y="5029200"/>
            <a:ext cx="2743200" cy="1633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Cj04413410000[1]"/>
          <p:cNvPicPr/>
          <p:nvPr/>
        </p:nvPicPr>
        <p:blipFill>
          <a:blip r:embed="rId2"/>
          <a:stretch/>
        </p:blipFill>
        <p:spPr>
          <a:xfrm>
            <a:off x="-76320" y="14479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2743200" y="1046160"/>
            <a:ext cx="5181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screens clean, please do not touch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remove or load any softwar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s can tilt over when moved, please do move them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gentle with mice &amp; headph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-66960"/>
            <a:ext cx="822960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ave your area neat, clean, and organized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228600" y="3552840"/>
            <a:ext cx="1828800" cy="106668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6400800" cy="3600360"/>
          </a:xfrm>
          <a:prstGeom prst="rect">
            <a:avLst/>
          </a:prstGeom>
          <a:ln w="76320">
            <a:solidFill>
              <a:srgbClr val="e0a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1d1df"/>
                </a:solidFill>
                <a:latin typeface="bang whack pow"/>
              </a:rPr>
              <a:t>Be Nice to Others</a:t>
            </a:r>
            <a:endParaRPr b="0" lang="en-US" sz="72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Help others with your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ang whack pow"/>
              </a:rPr>
              <a:t>mouth</a:t>
            </a: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 no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ang whack pow"/>
              </a:rPr>
              <a:t>mouse!!</a:t>
            </a: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Keep your hands 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your computer only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Open only your work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1" descr="MCj04257960000[1]"/>
          <p:cNvPicPr/>
          <p:nvPr/>
        </p:nvPicPr>
        <p:blipFill>
          <a:blip r:embed="rId1"/>
          <a:stretch/>
        </p:blipFill>
        <p:spPr>
          <a:xfrm>
            <a:off x="177840" y="3657600"/>
            <a:ext cx="29718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12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1d1df"/>
                </a:solidFill>
                <a:latin typeface="Berlin Sans FB"/>
              </a:rPr>
              <a:t>Internet Rules</a:t>
            </a:r>
            <a:endParaRPr b="0" lang="en-US" sz="72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Stay on approved websit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Never give out persona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information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odel Good Digital Citizenshi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at all times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629400" y="2514600"/>
            <a:ext cx="21430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23:01:56Z</dcterms:created>
  <dc:creator>Amber Coggin</dc:creator>
  <dc:description/>
  <dc:language>en-US</dc:language>
  <cp:lastModifiedBy>dell</cp:lastModifiedBy>
  <dcterms:modified xsi:type="dcterms:W3CDTF">2014-08-25T15:47:48Z</dcterms:modified>
  <cp:revision>31</cp:revision>
  <dc:subject/>
  <dc:title>Slide 1</dc:title>
</cp:coreProperties>
</file>